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469-AF0A-425B-B43A-68192C58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47A-2EED-47C8-BC4F-4DCA7A7D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D81-C057-422C-B956-3128D0FB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3CD-9376-4EED-882B-E7D111A3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558B-0F18-473F-95F0-458C9CD2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6CCE-4526-4A1E-A619-F9F4F516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933-6663-4DDC-90DA-0166F702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91FF-220C-4E1C-8B21-BDFA32DE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A52C-58CD-4503-9E88-B23B5B44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3882-3395-404C-A204-CCF039CA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6F24-8867-4C58-A58A-0FB32A6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CE2-EF96-4B04-8CA1-5965B344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90E6-50FB-4E3D-891E-C824EFA5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4B0D-61A2-4E4E-8EC6-AD40C251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7C70-4C9F-4666-8FA6-3D959387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5930-3A71-4F18-9475-4DE8EAF0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7A3F-E251-4CE4-90DC-7045E50C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D2C-EFC9-4176-B833-540318B8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4E4-9305-420E-99C0-3E0E13E6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951-DD13-4266-8D38-A3DD6D8D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6E9-0667-4214-9EF7-B27C17AB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2C5-9D50-4F13-8642-576DAECA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7A7-6CED-4AC4-BA5A-9D83E59A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32F-3985-4C42-8845-91B2833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6294-2AD7-4BE9-BF7C-15A77ADA2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E4B2-8B1A-4C26-B109-62A67514A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2000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h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ElectoralCollege2004.svg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sh’s Second Ter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d immigration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candal amongst high-ranking offic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ized for government response to Hurricane Katr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200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: John McC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 bipartisan legi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tnam War vete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candidate: Sarah Palin (Alaska govern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: Barrack Ob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inois se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recession in his fav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ama wins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frican American presid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294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eminist Revolu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increased their presence in the work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ity of women with children work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continued to receive a lower pay than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g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ptember 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11, 2001: two hijacked planes crashed into the twin towers of New York City’s World Trade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plane flew into Pentag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lane crashed in rural Pennsylvania, killing all passe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3,000 people 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had been spared from foreign attack on US soil for nearly 2 dec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45520" y="0"/>
            <a:ext cx="1698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486400" cy="343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057400" y="3400560"/>
            <a:ext cx="5524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ptember 11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Bush addressed Congress 9 day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not tire, we will not falter, and we will not fail” until “we bring our enemies justice or bring justice to our enemi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principal enemy: Osama bin Laden, head of Al Qaed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ntment of America’s economic, military &amp; cultural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resented US embargo against Iraq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ptember 11 Resul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iban refused to hand bin L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h ordered massive military campaign against Afghanist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mmetrical warfare: employing not just traditional warfare but also innovative intelligence gathering, economic reprisals &amp; infiltration of suspected organ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05320" y="5641920"/>
            <a:ext cx="21715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reat of Terror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ot Ac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mitted extensive telephone and email surveillance &amp; authorized detention &amp; deportation of immigrants suspected of terror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Homel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uantanamo Bay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merican military base in Cu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ndreds of detainees connected w/ global war on terr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s sharply divided on whether terrorist threat fully warrants drastic encroachments on civil liber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 in Iraq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h stated he would not tolerate Iraq’s defiance of UN weapons insp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dam’s removal was official goal of US poli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h accused Iraqi regime of oppressing its own people, frustrating the weapons inspectors, developing nuclear weapons of mass destruction &amp; supporting terrorist orga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2002- Congress passes resolution to employ armed force to defend against Iraqi threats to American national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2003- invasion of Iraq beg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ddam Hussein forced from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5- national elections he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200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: George W. B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 Child Left Behind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dated sanctions against schools that failed to meet federal performance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: John K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tnam War vete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n as “flip-floppe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h wins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 &amp; uncontes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4:33:48Z</dcterms:created>
  <dc:creator>emily.johnson</dc:creator>
  <dc:description/>
  <dc:language>en-US</dc:language>
  <cp:lastModifiedBy>emily.johnson</cp:lastModifiedBy>
  <dcterms:modified xsi:type="dcterms:W3CDTF">2013-04-30T18:18:32Z</dcterms:modified>
  <cp:revision>5</cp:revision>
  <dc:subject/>
  <dc:title>The 2000s</dc:title>
</cp:coreProperties>
</file>